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61E-58C9-4A63-BAC3-1F69B09E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E8F-4DF2-43CF-A25A-C75421EC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869-4F0E-4500-9223-CDD46B67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E83-F971-4964-8F64-2CF75FBC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DE9-C27E-4710-97A5-F809447F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9EA-C64D-46FF-B427-AB1D0ED8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0DD-13BB-44A2-8ACB-473869C9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496-9133-440F-A9ED-A146222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49C-3836-4C37-8E7A-B30A7303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1C7-AA16-44EF-A68E-D163F840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A46-1B49-4AA7-875E-902BF6F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BE7-88F0-4DEB-8846-6D2AC01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A321-7DE8-4C2F-A489-F391FF01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ord Am I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nferenc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tudent will be chosen as “the guesser.”  They will sit under the projector screen.  The teacher will flash one word on the scre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 the audience will try to describe a time when they felt this way.  They may NOT use the word on the scr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uesser will try to guess the word on 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more words if desi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tifi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st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ast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litt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31:44Z</dcterms:created>
  <dc:creator>Clint</dc:creator>
  <dc:description/>
  <dc:language>en-US</dc:language>
  <cp:lastModifiedBy>Shirley Barclay</cp:lastModifiedBy>
  <dcterms:modified xsi:type="dcterms:W3CDTF">2013-03-21T21:34:59Z</dcterms:modified>
  <cp:revision>4</cp:revision>
  <dc:subject/>
  <dc:title>What Word Am I?</dc:title>
</cp:coreProperties>
</file>